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0B3-730F-4EA3-B4C3-9A165576B1C3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839-E938-477C-970D-53962B67BF7C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2E5-702D-49F9-B8D6-9469326BE66C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8477-CCD7-4F8F-96C5-052CAEEF417C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25F7-4263-419E-A3AA-D8CC259230E3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373E-36AF-45F1-BB92-03356E0C136D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EDE-A7DA-4BC8-A303-F5117F0AE64E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CB9-0117-4231-9593-31476963B2DD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391-F7CE-40CF-9D27-7CECE58A345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73D8-5152-45C6-A0C2-83921AE7B3D4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BB8A-8AA6-4E8A-8FA4-0DE2F8C9654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ED3-E021-4613-BFDA-9239F5D8F845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569-A8B1-4DCD-9041-F6922E5E8A3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87C1-E39D-40D4-9629-6082D498E569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401-317B-4AC9-943E-2611DFE8498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784E-BB29-406A-A019-F9813F578AAF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C0A-94D7-40A9-B8EC-EBCA93C22FD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511B-2F5C-4415-A6EF-23A7644F165A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D345-B784-428B-A080-834B963FF1F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2" marL="1143000" indent="-228600" algn="ctr">
              <a:buClr>
                <a:srgbClr val="000000"/>
              </a:buClr>
              <a:buFont typeface="Gill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3" marL="1600200" indent="-228600" algn="ctr">
              <a:buClr>
                <a:srgbClr val="000000"/>
              </a:buClr>
              <a:buFont typeface="Gill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4" marL="2057400" indent="-228600" algn="ctr">
              <a:buClr>
                <a:srgbClr val="000000"/>
              </a:buClr>
              <a:buFont typeface="Gill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11480"/>
            <a:ext cx="13004640" cy="1549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Georgia"/>
              </a:rPr>
              <a:t>Reshaping Body Image</a:t>
            </a:r>
            <a:endParaRPr b="0" lang="en-US" sz="9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3" name="Line 2"/>
          <p:cNvSpPr/>
          <p:nvPr/>
        </p:nvSpPr>
        <p:spPr>
          <a:xfrm>
            <a:off x="723960" y="463536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4832280"/>
            <a:ext cx="127872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e4243"/>
                </a:solidFill>
                <a:latin typeface="Georgia"/>
                <a:ea typeface="Georgia"/>
              </a:rPr>
              <a:t>How are overweight and obese people </a:t>
            </a:r>
            <a:br>
              <a:rPr sz="4200"/>
            </a:br>
            <a:r>
              <a:rPr b="0" lang="en-US" sz="4200" spc="-1" strike="noStrike">
                <a:solidFill>
                  <a:srgbClr val="2e4243"/>
                </a:solidFill>
                <a:latin typeface="Georgia"/>
                <a:ea typeface="Georgia"/>
              </a:rPr>
              <a:t>treated in our society?</a:t>
            </a: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231920" y="6178680"/>
            <a:ext cx="111632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the body size or shape of each person? Which ones? What words did you use to describe their bodies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82360" y="614664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231920" y="5073480"/>
            <a:ext cx="11252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how attractive or unattractive each person is? What words did you us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31920" y="7816680"/>
            <a:ext cx="11188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e4243"/>
                </a:solidFill>
                <a:latin typeface="Georgia"/>
                <a:ea typeface="Georgia"/>
              </a:rPr>
              <a:t>Were your “first impressions” of the women different from your feelings about the men? How about the white people as compared to the people of color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31920" y="6178680"/>
            <a:ext cx="111632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write down any words about the body size or shape of each person? Which ones? What words did you use to describe their bodies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882360" y="50418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882360" y="614664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882360" y="777240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30400" y="74422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Lillian Russell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Actress and Sex symbol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early 20th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6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985080" y="74422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Nicole Kidman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Actress and Sex symbol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155600" y="7454880"/>
            <a:ext cx="487692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Babe Ruth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Pro baseball player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early 20th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7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985080" y="745488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2fef2"/>
                </a:solidFill>
                <a:latin typeface="Georgia"/>
                <a:ea typeface="Georgia"/>
              </a:rPr>
              <a:t>Barry Bonds</a:t>
            </a:r>
            <a:endParaRPr b="0" lang="en-US" sz="41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Pro baseball player, </a:t>
            </a:r>
            <a:br>
              <a:rPr sz="3100"/>
            </a:br>
            <a:r>
              <a:rPr b="0" lang="en-US" sz="31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3040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King Henry VIII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16th century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9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98508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President Bush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21st century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now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n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8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520" y="7594560"/>
            <a:ext cx="608328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fef2"/>
                </a:solidFill>
                <a:latin typeface="Georgia"/>
                <a:ea typeface="Georgia"/>
              </a:rPr>
              <a:t>Miss America contestant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1950s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98508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Miss America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2002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694692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30400" y="7594560"/>
            <a:ext cx="48765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American dancer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ballet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130400" y="1778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0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781680" y="7594560"/>
            <a:ext cx="527076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New Zeland danc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2fef2"/>
                </a:solidFill>
                <a:latin typeface="Georgia"/>
                <a:ea typeface="Georgia"/>
              </a:rPr>
              <a:t>performing Maori haka</a:t>
            </a:r>
            <a:endParaRPr b="0" lang="en-US" sz="3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6667560" y="368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t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30120" y="7531200"/>
            <a:ext cx="5867640" cy="1346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American 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Wrestl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16000" y="368280"/>
            <a:ext cx="61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here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1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794640" y="7531200"/>
            <a:ext cx="584172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Japanese 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2fef2"/>
                </a:solidFill>
                <a:latin typeface="Georgia"/>
                <a:ea typeface="Georgia"/>
              </a:rPr>
              <a:t>Sumo Wrestlers</a:t>
            </a:r>
            <a:endParaRPr b="0" lang="en-US" sz="43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0" y="7175520"/>
            <a:ext cx="13004640" cy="1549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2fef2"/>
                </a:solidFill>
                <a:latin typeface="Georgia"/>
                <a:ea typeface="Georgia"/>
              </a:rPr>
              <a:t>What are your first impressions?</a:t>
            </a:r>
            <a:endParaRPr b="0" lang="en-US" sz="60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1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2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3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4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232240" y="8953560"/>
            <a:ext cx="2540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e4243"/>
                </a:solidFill>
                <a:latin typeface="Verdana"/>
                <a:ea typeface="Verdana"/>
              </a:rPr>
              <a:t>[  5  ]</a:t>
            </a:r>
            <a:endParaRPr b="0" lang="en-US" sz="37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13004640" cy="12826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Discussion</a:t>
            </a:r>
            <a:endParaRPr b="0" lang="en-US" sz="7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231920" y="170820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What were some of the first words that came to mind about these people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23960" y="1523880"/>
            <a:ext cx="11565000" cy="0"/>
          </a:xfrm>
          <a:prstGeom prst="line">
            <a:avLst/>
          </a:prstGeom>
          <a:ln w="38160">
            <a:solidFill>
              <a:srgbClr val="2f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31920" y="2838600"/>
            <a:ext cx="1127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health and happin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231920" y="3956040"/>
            <a:ext cx="1134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4343"/>
                </a:solidFill>
                <a:latin typeface="Georgia"/>
                <a:ea typeface="Georgia"/>
              </a:rPr>
              <a:t>Did you have any impressions about the level of intelligence or success of each person? What were they?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82360" y="1689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82360" y="283212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882360" y="3936960"/>
            <a:ext cx="16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d4143"/>
                </a:solidFill>
                <a:latin typeface="Georgia"/>
                <a:ea typeface="Georgia"/>
              </a:rPr>
              <a:t>•</a:t>
            </a: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ris, Erin</dc:creator>
  <dc:description/>
  <dc:language>en-US</dc:language>
  <cp:lastModifiedBy>Ferris, Erin</cp:lastModifiedBy>
  <dcterms:modified xsi:type="dcterms:W3CDTF">2012-04-02T15:22:05Z</dcterms:modified>
  <cp:revision>7</cp:revision>
  <dc:subject/>
  <dc:title>Reshaping Body Image</dc:title>
</cp:coreProperties>
</file>